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2F65A-7ACE-4C5F-A1FE-E3E5D5360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E79B8-BE90-4B05-B08E-E05CD2EAD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318F1-7D59-4ADF-A468-5F2E07D063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527E8-B5C3-4BE8-A62C-617CC6DC48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19E-C89E-449D-AC77-17BC1B30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C0F-944B-4353-9D80-7F40F60E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ABE83-0D3E-4B5D-BDD0-269A5DD4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1F9FC-212E-4FAA-A464-DCB1B9B6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C18E9-1AE1-4C89-A825-BC284355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5784D-392C-4D7E-89B2-B8227BD0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F387A-8B8B-493D-8DC3-D711C9A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C6C62-2729-4688-A3A0-881399B5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2F31B-AFCD-4A33-8873-98B8264F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2DE73-840E-4D9C-A9FC-5523F3C4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B0B68-88F8-4BA1-9A2B-B7D73237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F6755-D2AA-4CB2-9277-6CA8A75E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746-71B6-4481-A6C5-719E2B0E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6EA94-B87D-4D7F-8A0F-3EEFE81B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23AC6-8391-4071-94BB-CBA918BD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F84E2-C572-45DD-9084-2F10456C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C48C8-04E6-48AB-95DD-51550023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206F5-5851-40B9-AA43-99AE12F5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A44D0-5DA9-4CA3-9EAF-01476C1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D690F-B4BD-4C2C-B58E-A301B34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551E2-C504-4E7D-93F5-2F55E30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1B550-6B07-47CD-B68D-5A608499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6D77D-3618-4C5B-99B3-1BCF37BE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3FF-7DE3-4922-80DF-9CE41287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FACD7-0CFA-4D65-8184-FE1DA345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2FA9F-936F-4DAA-B782-7D433E30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0078B-39F4-4841-A17D-C8F228B1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5F4ED-7670-4267-8922-C159DB81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4FBA6-1FA3-4744-8110-E7F64B24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90053-48CC-42AD-BBAC-E702E7EB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4E100-61D6-4687-9DB1-66854191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CD6F1-BE18-4FD3-9AEC-98AE1332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BF649-8665-4531-A25D-D7A38BB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35526-2817-4364-BBF2-B9DAD29D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6825F-48CC-4CEC-B91E-F862C55E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A8B1A-46D7-4BB8-AAEB-091275B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4B10A-EBFB-45ED-81E6-2612ABF3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01B64-141E-47EA-B26B-2D501D4B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375F8-EB3D-4DB1-B0F2-8DFA5A17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DF926-8457-460F-9285-1F6887C2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EEB67-D305-4CC6-9D17-07525176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3BA54-B36D-4706-999B-B33D2005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B947C-1BD9-4540-9A14-9BD24C8D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C6D10-278A-4232-BE2B-983166BE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04445-A31A-4BD0-A370-CFDD70A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CC062-BEA0-4E0F-AB23-97CC7EFC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4A061-9B06-4E12-A139-FBB91EF3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9D5B6-B890-4F13-BDA8-3AF17104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A8368-17E0-4723-9836-124FDA34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A06DB-CDEA-42A6-90BA-36908E49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0D1E2-7055-4493-A3FA-986F8A5D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D9311-3E3B-495D-94CA-7BECC05E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57184-AC5D-4C72-9334-205E894B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348D9-E537-4996-AB00-284B778B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368DF-5F75-41FD-8A9D-68A8829C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A5248-094A-4C73-9358-CD1512BF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4F2F3-9191-488D-B266-8AEA1B3E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0CCBF-DBF4-4E89-A912-AB362203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5EE3E-A985-4E46-BD93-5591F07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DD5E0-A98E-472E-98DB-45DED24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435B8-28FD-416F-8803-19EBCE66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A0D7F-FE16-40EE-9140-3599FE2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4E2A3-0764-4DBD-9523-7C0A0021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3605F-C897-459E-A8DE-5824C73E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7D9AF-55FB-4375-9AE1-0FB4DFE7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B938C-9FAD-4158-8828-CC5E1B00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D6ABE-3469-4832-86D2-099F7448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3D6AD-2F32-4F19-A4BF-05F2C5D1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C209C-3AF2-40B6-8D64-93EDEA7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7B653-A1E0-4DDE-80E1-8F40DB5D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9B03F-0F48-4968-8AAE-66A6C792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B8014-E957-4635-B75F-3CE738AF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72B76-6437-455A-B030-3906711B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B20AC-22EB-44BF-AE4B-85752DC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6EC8F-F1B2-416C-9E89-E9F81112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10377-94A0-45A4-95A8-061D3E9A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D25F7-E902-421D-A47D-6A880474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3F168-1C23-4429-A45C-6AB1C240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78317-7A6F-4168-98EC-679B7E73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BF870-2BB4-45E8-BB4E-65803707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45E4B-8961-4DEA-B56B-60E50EBC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70473-BE6C-451D-BCF2-CF7D5F1F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31055-7824-41DE-8E71-7A7E7BA0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AC8CB-2CA2-401C-94C2-8A6F129B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A50A5-4C71-47EF-8EBF-6D27E29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70C30-752F-4817-B83C-B2CB8DD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9D4C2-812C-4B39-A499-75DC152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C89F5-7B54-4AAD-A6DD-B32BBEF7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31EBD-5E9C-43D6-9C2A-507B50BE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FF935-86F1-4332-9682-9BBEF69C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38AC2-8D8C-497F-89FC-310A5DA4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D5738-0D2B-4D0A-AFD9-F9776B14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22E74-0194-47A0-83B9-E9EABB66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9FDD1-AAC0-46A6-A01A-9D74813F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8AA58-DFD0-49CA-A7A8-87476B2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5132D-3CCC-4025-A50A-78FA2896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6E2D1-CDAF-483E-A5FE-DE9BEEAF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51CD7-993A-4D2A-92D9-8986769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52CEB-228E-4113-B1CA-F0DA1D7D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13C86-A241-4246-8D3F-E5F7965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9E846-7BD7-408C-BD54-E6BC7297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47803-31DC-446B-825D-AEE38606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34791-83E1-4175-B81A-3E9649D5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38DC7-348A-4318-8EA4-AB732CED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B2E59-9E14-4AF8-B81D-757FACE3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E866C-0B78-43BA-B02E-ECAD597E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03428-840A-4F27-8846-90475F02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9AEB2-CA31-47A5-BB03-AACD130A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ED850-3C9B-4388-82DE-E2F66E9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091F4-6777-478D-A371-33072739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79335-D3EB-4168-9148-04552BF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0BB-FB32-4DC5-A36D-EE15FBCD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159E3-30E8-4B77-859D-C356601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31886-F3DD-4E5D-B2F3-B73380E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4F487-A8CE-4026-B0FC-5E25C551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A0BF3-A523-46CB-9B87-FCE21FDE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BC16B-4AF8-4C8D-8C85-66F51977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6153E-691E-4512-900D-02958AF5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7B370-8DA7-44A8-A3FA-12F5373F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E7F50-0BA5-4EF9-A28F-7025E211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EB967-7798-4C0A-B2C8-E1BFBE42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27C04-F26F-4110-9309-CD7F4CE4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27DC-8A50-46DE-ABBC-25660898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D160-5FAE-44DB-A3F4-52041653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AE00-176B-4FC5-AA7F-3590414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F354-F652-419A-BE36-18E3AE9B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A27B-E0AA-4810-BB17-8187054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D7F-64AE-4F91-AA17-4E90C3FA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D10B-CDF2-42C6-AF41-1BE40614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6A00-ADC0-4751-93F2-D8CF7A2C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9BF6A-3C35-4A5B-9C85-EDFB14F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C0DF3-FAB2-49E6-88C3-BAAC77BF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A006-5CD5-4088-81EB-85D3B444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2597-78B4-4A3C-ADC4-244CD049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1C2E-917B-4638-84E8-E02A122C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41E4-2022-433E-8824-DCB4223D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55DA-8D6E-475C-A9AC-740B82B7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760E-96FA-4F4E-B426-495127D8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BEA-4FD6-4C60-8EAA-11263CC9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982C-6780-4EDC-B611-A9CF2264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4EAC-3B22-48B5-88D3-616B1C96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6C4F3-6390-43B8-A5D8-014B2013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028F0-1ADD-4D4A-B01C-D66321D0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6A0C-9BA3-4C90-A57C-D88D1571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9F68-2D99-4A58-88D8-55AAFD5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01323-E189-468D-A290-7931C9E0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0AEE-B679-4069-8077-C64F50F0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CDA4-8D3C-4D21-8A87-6B5ADE3C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41DF8-BEC5-4BCA-BCAD-6DCC158F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222-0FDF-46E6-951E-B0C259A3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3507-9AD4-449A-8ACC-9C2F9DE8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684B-DBA1-4CF0-B9AB-6EE93E0A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D2B2-D567-4A31-A94F-5A0492C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9A7E3-9F67-4DD2-BDA0-07BE4A7E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42E21-B36C-4ED2-8182-8A24427B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FA92-7A9F-409B-B862-64C8EB02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F762-C200-4773-9364-5D311FAD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3131-719E-4A6D-8757-945F84CC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62F5-9380-407A-A331-5174ECF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6260B-839D-4590-B43B-B1EE2917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2DF-B665-4912-8CC7-F0A8DF85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4CC45-623A-4A03-B767-35FD1613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24C0C-5873-47A2-8D44-FFC27623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54756-EF7D-4214-9E12-B58187CD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DDA57-B96B-48ED-B302-07463099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91D2-5DBD-4EA9-8923-37BA344A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D59D-5553-4391-849D-1A101117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F743E-1935-42B3-A561-948F6C3E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6D4A4-524F-4E52-B1E8-C87CA07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405DF-E35F-44D5-AD3F-6C6F7CD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BF946-1972-4750-8A91-A42A794E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062-791E-40E4-BA94-8D955074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E71DB-0C13-4574-9786-318BDDB2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66C97-B305-45BA-8CCF-8ACF4766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91CED-34BB-4EB6-86ED-759C0017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A714-C952-4575-BFEB-3F087BA7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8F96D-16C3-4B5B-841F-A3491CA2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836B-EC9F-4300-A474-DBBC0AD0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6506F-3FE4-4FAF-A1A3-C5626EEF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9A198-0557-4DF1-AA3F-6F6E2EFC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32720-B264-46DE-8CFC-20CD4100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35599-5303-4FD1-968F-46C0BEE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04F-4E15-404E-AB1A-F010ACB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FFD6-9345-4497-A0D2-B6C1A5E4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C0772-B594-475D-AC41-013A819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A435-3641-4883-8F2B-83F2645C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E5B6B-2B13-4CC5-B5FF-28AA47DC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24E02-7C8A-4C6F-B666-5A78A1E2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78B00-72D1-4191-9735-796B9406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5B78-C35D-43C7-8768-040B13E0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5895F-2D44-4242-9DDB-84CB418B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3A42B-E1CC-4C3D-8A19-FB4BDFFE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25F6A-BBB4-4452-9643-76D8BC38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7AE-C81E-49F6-9918-AA73113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40E6B-54E8-47CE-A2CD-E86CFD88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4BD07-A0FF-4D36-83B1-E58BBC0C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93A43-7573-4289-88BE-EF269449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38B33-7BBD-4568-AC2A-B0F139A3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44382-61BC-474F-ABF4-468B64E9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0326A-B4B1-499F-A982-10D6868A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251E1-46D7-4684-91B8-9B2DA0D9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3F099-FA00-4879-ACD0-970AE747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B725E-37CB-4A41-B968-691590D4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635B6-BC3D-4047-88A6-718B17F1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23699-3808-4163-A2CD-5A2C855395A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D89BA-02BF-4E00-B955-8D38FBC3A66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83AFB-E2F4-43F3-A3BE-530B12597709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8AA33-3712-44E0-B671-97518227B37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8B111-A609-4C9A-81F3-81F9D2EB6C2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D9B93-C408-4861-A9F4-472318B4EB2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98C0C-BF84-42E0-B3C7-0EA48C0AC945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3BD6F-830E-45D3-B57E-B18A1F535D6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6F0EB-D423-4BB1-BF9B-B860AC5CCFB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3E6C7-A290-4F85-A55A-0FF391BA757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EF310-EC3D-48F8-A19D-8C0BEA81A925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44008-04E3-4DB5-8456-AA8A943A863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C6030-3244-4DD2-A726-55DF3C785D9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E535B-FD5D-4F12-8A49-99E8B36C242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17FD3-1123-49D8-B27D-DB37FB68A21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1C203-7771-4022-B3A0-132A0BBBA3A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0E93D-DEC8-4A01-9D4D-C2C5720D4B0F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10A55-EEBF-4B68-987A-710E667B41A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B51E6-FAFD-4D1B-8CD0-F4FF51BA47B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D64D8-7C5A-423F-A5CF-2D6EE31A4BD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076FD-5980-4B96-A2E2-4D74ABAB58A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1B5C8-D59B-493C-9CE8-AAD348D9F8B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2F961-2E05-477E-BEF8-DDAA10FDAD79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740AE-2C5A-4A6F-9BE2-8454B5F3FF9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3D3BA-1704-4987-BAF2-85FEBA6F330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0D71F-BB67-4063-A73D-67BB5AD6BF2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C6EBF-B8FA-42E0-9969-6B59FA3D6A8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8F1DB-1A94-447F-997C-F0CF74AAA37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5F38E-20E9-4089-AA19-E3FBBADA559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9084F-5673-4810-9744-9860C04F289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C53A4-705A-42C9-B9E2-BC23244D3DE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E07DF-7689-4910-8EEC-FE43E2E5DEF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4D36E-8B09-4640-9318-185EDBCAEAD9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D0185-4449-4F74-9954-6CC482DAB52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eek Government &amp; Law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Dorians Inva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79440" y="1425600"/>
            <a:ext cx="84405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oth Mycenaean &amp; Minoan civilizations weakened by earthquak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1200 B.C all major Mycenaean cities destroy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w migrating tribes (Dorians) arriv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ss advanced – </a:t>
            </a:r>
            <a:r>
              <a:rPr b="0" lang="ja-JP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ek Dark Age</a:t>
            </a:r>
            <a:r>
              <a:rPr b="0" lang="ja-JP" sz="28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Dorians appear to have been illiterate. No written record exists between 1150-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37240" indent="-2372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ntil Phoenician traders introduced an alphabet around 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C:\Documents and Settings\Evan\My Documents\My Pictures\New Folder\MapGreekColonies.jpg"/>
          <p:cNvPicPr/>
          <p:nvPr/>
        </p:nvPicPr>
        <p:blipFill>
          <a:blip r:embed="rId1"/>
          <a:srcRect l="2015" t="0" r="2015" b="0"/>
          <a:stretch/>
        </p:blipFill>
        <p:spPr>
          <a:xfrm>
            <a:off x="811080" y="1185840"/>
            <a:ext cx="75837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79040" y="755280"/>
            <a:ext cx="75834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velopment of City-States 800</a:t>
            </a: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-700</a:t>
            </a: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 B.C.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288720" y="1600200"/>
            <a:ext cx="885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750 B.C. the method of governing areas had changed from tribal to more formal governments (city-states 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rebuchet MS"/>
              </a:rPr>
              <a:t>POLI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w around fortified hilltop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LIS: Greek city-state – the fundamental political unit of ancient Greece after about 750 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LIS: Fort, the city and the surrounding lan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4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hared Features of City-Stat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225360" y="852480"/>
            <a:ext cx="891864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30-500 square miles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mall population (most fewer than 10,00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Only free adult men had all rights of citizenship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omen were considered citizens without political righ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itizens gathered at 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rebuchet MS"/>
              </a:rPr>
              <a:t>AGORA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(marketplace) or on a fortified hilltop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rebuchet MS"/>
              </a:rPr>
              <a:t>ACROPOLIS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o discuss city governmen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poke the same languag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hared many religious ideas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Greek myth that all Greeks were descended from Hellen (Hellenistic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estivals such as Olympic Games brought them togeth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were the Greeks Special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22360" y="1425600"/>
            <a:ext cx="8175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te your own A3 poster showing the contributions of Greek Civiliz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s is intended to introduce you to the scope of Greek contributions (in summary - why we are studying Greek civilization) and some key individuals that we will look at in more detail late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ke this as attractive as you can – use bullet points notes, representative diagrams/symbols and pictures from internet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ity- State Political Structur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reek City-States had different structur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Monarchy, Oligarchy, Tyran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sing the handout create a mind map for each of these within the Greek contex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e Rise of Athen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atch the film and answer the questions to learn about the growth of Athens and the path to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P3 files are loaded on Forum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Social Structure in Athens under the Aristocrac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6" name="Content Placeholder 3" descr=""/>
          <p:cNvPicPr/>
          <p:nvPr/>
        </p:nvPicPr>
        <p:blipFill>
          <a:blip r:embed="rId1"/>
          <a:stretch/>
        </p:blipFill>
        <p:spPr>
          <a:xfrm>
            <a:off x="237960" y="1420920"/>
            <a:ext cx="86742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26880" y="678960"/>
            <a:ext cx="758376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did democracy develop in Ancient Greec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2697120" y="1425600"/>
            <a:ext cx="64468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eisthenes – noble Athenian of the  Alcmaeonid famil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508 B.C. overthrew tyrants and made sweeping changes that turned Athens into a limited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ivided tribes into 10 clans, subdivided into local governments (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rebuchet MS"/>
              </a:rPr>
              <a:t>DEME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ans each chose 50 members of Council of 500 – by l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embers served 1 year – 2 term limit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urors also chosen by lot (from citizen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9" name="Picture 3" descr=""/>
          <p:cNvPicPr/>
          <p:nvPr/>
        </p:nvPicPr>
        <p:blipFill>
          <a:blip r:embed="rId1"/>
          <a:stretch/>
        </p:blipFill>
        <p:spPr>
          <a:xfrm>
            <a:off x="326880" y="1425600"/>
            <a:ext cx="237024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id Pericles change Athens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Using pp13-135 of the handou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317520" y="1325520"/>
          <a:ext cx="8478720" cy="5175360"/>
        </p:xfrm>
        <a:graphic>
          <a:graphicData uri="http://schemas.openxmlformats.org/drawingml/2006/table">
            <a:tbl>
              <a:tblPr/>
              <a:tblGrid>
                <a:gridCol w="4238640"/>
                <a:gridCol w="424008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ericles</a:t>
                      </a:r>
                      <a:r>
                        <a:rPr b="1" lang="ja-JP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chan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c59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ow this strengthened democracy and 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c5986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reased the number of public officials that were paid sala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e pp134-135 of the hand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 limits on holding off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roduction of Direct Democ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d and strengthen the Athenian Emp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d"/>
                    </a:solidFill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orification of 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Focus Point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velopment of Greek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haracteristics of Greek Socie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ontrasting Athenian and Spartan cultur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1"/>
          <p:cNvSpPr/>
          <p:nvPr/>
        </p:nvSpPr>
        <p:spPr>
          <a:xfrm>
            <a:off x="2357280" y="0"/>
            <a:ext cx="4119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enian Government &amp;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ecks and bal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214200" y="1143000"/>
            <a:ext cx="18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2000160" y="12142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3929040" y="1295280"/>
            <a:ext cx="16430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e parlia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2"/>
          <p:cNvSpPr/>
          <p:nvPr/>
        </p:nvSpPr>
        <p:spPr>
          <a:xfrm>
            <a:off x="5257800" y="144792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le landow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3"/>
          <p:cNvSpPr/>
          <p:nvPr/>
        </p:nvSpPr>
        <p:spPr>
          <a:xfrm>
            <a:off x="5715000" y="16765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ree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4"/>
          <p:cNvSpPr/>
          <p:nvPr/>
        </p:nvSpPr>
        <p:spPr>
          <a:xfrm flipV="1" rot="10800000">
            <a:off x="2642760" y="1816200"/>
            <a:ext cx="1428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dviso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8"/>
          <p:cNvSpPr/>
          <p:nvPr/>
        </p:nvSpPr>
        <p:spPr>
          <a:xfrm>
            <a:off x="1371600" y="2819520"/>
            <a:ext cx="186228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ereop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iminal law court, made up of  former arch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1"/>
          <p:cNvSpPr/>
          <p:nvPr/>
        </p:nvSpPr>
        <p:spPr>
          <a:xfrm>
            <a:off x="5029200" y="2286000"/>
            <a:ext cx="144792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ncil of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2"/>
          <p:cNvSpPr/>
          <p:nvPr/>
        </p:nvSpPr>
        <p:spPr>
          <a:xfrm>
            <a:off x="7391520" y="3276720"/>
            <a:ext cx="14475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rt of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8"/>
          <p:cNvSpPr/>
          <p:nvPr/>
        </p:nvSpPr>
        <p:spPr>
          <a:xfrm>
            <a:off x="5000760" y="2971800"/>
            <a:ext cx="18572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the gover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citizens (3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1 year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2 term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p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chosen by lotte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6"/>
          <p:cNvSpPr/>
          <p:nvPr/>
        </p:nvSpPr>
        <p:spPr>
          <a:xfrm flipH="1">
            <a:off x="3276360" y="1752480"/>
            <a:ext cx="857160" cy="21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7"/>
          <p:cNvSpPr/>
          <p:nvPr/>
        </p:nvSpPr>
        <p:spPr>
          <a:xfrm flipH="1">
            <a:off x="2362320" y="22860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8"/>
          <p:cNvSpPr/>
          <p:nvPr/>
        </p:nvSpPr>
        <p:spPr>
          <a:xfrm>
            <a:off x="5181480" y="1905120"/>
            <a:ext cx="32868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9"/>
          <p:cNvSpPr/>
          <p:nvPr/>
        </p:nvSpPr>
        <p:spPr>
          <a:xfrm>
            <a:off x="6477120" y="2743200"/>
            <a:ext cx="1523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4"/>
          <p:cNvSpPr/>
          <p:nvPr/>
        </p:nvSpPr>
        <p:spPr>
          <a:xfrm>
            <a:off x="1066680" y="5029200"/>
            <a:ext cx="695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Pericles extend democra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paying people to attend the Assembly help democra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you think there were time limits on holding off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 you think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"/>
          <p:cNvSpPr/>
          <p:nvPr/>
        </p:nvSpPr>
        <p:spPr>
          <a:xfrm>
            <a:off x="2357280" y="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henian Government &amp;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214200" y="114300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80008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century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2000160" y="12142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66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century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ig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2428920" y="19288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1 BC Dr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2214720" y="257184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4 BC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ol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e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3714840" y="12859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en-US" sz="1800" spc="-1" strike="noStrike" baseline="30000">
                <a:solidFill>
                  <a:srgbClr val="0099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century</a:t>
            </a: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yr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3857760" y="207180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0 BC Pisistratus the Ty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6000840" y="12859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centur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5929200" y="221472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7 BC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leisth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moc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3929040" y="31050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2"/>
          <p:cNvSpPr/>
          <p:nvPr/>
        </p:nvSpPr>
        <p:spPr>
          <a:xfrm>
            <a:off x="5572080" y="32446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landow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3"/>
          <p:cNvSpPr/>
          <p:nvPr/>
        </p:nvSpPr>
        <p:spPr>
          <a:xfrm>
            <a:off x="5715000" y="3571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ll Fre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4"/>
          <p:cNvSpPr/>
          <p:nvPr/>
        </p:nvSpPr>
        <p:spPr>
          <a:xfrm flipV="1" rot="10800000">
            <a:off x="2642760" y="36122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8"/>
          <p:cNvSpPr/>
          <p:nvPr/>
        </p:nvSpPr>
        <p:spPr>
          <a:xfrm>
            <a:off x="1143000" y="4071960"/>
            <a:ext cx="178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reop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5029200" y="411480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ncil of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7391520" y="4343400"/>
            <a:ext cx="14475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urt of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pp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8"/>
          <p:cNvSpPr/>
          <p:nvPr/>
        </p:nvSpPr>
        <p:spPr>
          <a:xfrm>
            <a:off x="5000760" y="4876920"/>
            <a:ext cx="185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citizens (30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1 yea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2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chosen by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33"/>
          <p:cNvSpPr/>
          <p:nvPr/>
        </p:nvSpPr>
        <p:spPr>
          <a:xfrm>
            <a:off x="6858000" y="5867280"/>
            <a:ext cx="12193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6"/>
          <p:cNvSpPr/>
          <p:nvPr/>
        </p:nvSpPr>
        <p:spPr>
          <a:xfrm flipH="1">
            <a:off x="3500280" y="3571920"/>
            <a:ext cx="857520" cy="21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7"/>
          <p:cNvSpPr/>
          <p:nvPr/>
        </p:nvSpPr>
        <p:spPr>
          <a:xfrm flipH="1">
            <a:off x="2428560" y="385776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8"/>
          <p:cNvSpPr/>
          <p:nvPr/>
        </p:nvSpPr>
        <p:spPr>
          <a:xfrm>
            <a:off x="5135400" y="3714840"/>
            <a:ext cx="22248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9"/>
          <p:cNvSpPr/>
          <p:nvPr/>
        </p:nvSpPr>
        <p:spPr>
          <a:xfrm>
            <a:off x="5214960" y="3643200"/>
            <a:ext cx="2214720" cy="71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28680" y="380880"/>
            <a:ext cx="823104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ge of Peric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328320" y="1568160"/>
            <a:ext cx="8450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ericles was swept into power and broke up the Council of 500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42880" indent="-277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ericles changed the rules about who could participate in the new democracy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42880" indent="-277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t was not based on birth status or wealth, but on meri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42880" indent="-277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e changed the rules to be a citizen: both parents need to be Athenia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42880" indent="-277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der Pericles the Assembly (all citizen males) became the central power in the stat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f the great Greek Tragedies and Comedies were written during this time perio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uilt the Parthen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cused on Democratic reform and the maintenance of the Empir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me say Athens wealth (due to Pericles) was the reason for Sparta’s disdai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5320" indent="-2653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6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mocracy in the Age of Pericl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779040" y="1041120"/>
            <a:ext cx="75834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ominated Athenian public affairs between 461B.C.-429B.C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Great general, orator, and statesma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time of Athens</a:t>
            </a:r>
            <a:r>
              <a:rPr b="0" lang="ja-JP" sz="22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greatest power and prosperi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emocracy reaches its height (Direct Democracy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ll male citizens could hold office (not just landowners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Officeholders received salari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ost offices were chosen by l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ower to the People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779040" y="1482480"/>
            <a:ext cx="75834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stracism: the practice of banning people from Athens for 10 ye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6000 citizens had to vote for ostracis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signed to prevent civil unrest and civil wa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thenians feared too much power in the hands of one or a few peop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However, whilst ordinary people were now more able to participate in public affairs…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4160" indent="-2541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omen did not hold full citizenshi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4160" indent="-2541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thens still supported by slaver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54160" indent="-2541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n fact some historians would suggest that about 75% of people in Athens were not considered full citizen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19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4160" indent="-2541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79040" y="647280"/>
            <a:ext cx="75834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End of Democracy in Greec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779040" y="1317600"/>
            <a:ext cx="75834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eloponnesian Wars (431-404 B.C) weakened all of Greec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t the end of the war a group of Oligarchs led a revolution to seize power (supported by Sparta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1680" indent="-29196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uled for one year before being overthrown by democratic principl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mocracy flourished for another 80 years until Alexander the Great conquered Greece in 322 B.C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omans extinguished democracy for good when they created their Republic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Democrac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o were the founding fathers of democracy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hat are the characteristics of Athenian democracy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raw a diagram or cartoon to that would help someone understand the main elements of Democrac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Law &amp; Government Glossary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autocrac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tyrann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oligarch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aristocra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Direct democrac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Representative democra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monarch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republic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9" name="Picture 3" descr="C:\Documents and Settings\Evan\My Documents\My Pictures\New Folder\map.jpg"/>
          <p:cNvPicPr/>
          <p:nvPr/>
        </p:nvPicPr>
        <p:blipFill>
          <a:blip r:embed="rId1"/>
          <a:srcRect l="2159" t="2554" r="4931" b="2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Title 1"/>
          <p:cNvSpPr/>
          <p:nvPr/>
        </p:nvSpPr>
        <p:spPr>
          <a:xfrm>
            <a:off x="1386000" y="406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hat was so speci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about the Gr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ntent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7760" y="538200"/>
            <a:ext cx="893124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Minoan Civilizat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10600" y="1417680"/>
            <a:ext cx="84870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dence suggests that Minoan civilization was well developed by around 2000B.C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te (soil unsuitable for many crops – trade by sea widely, including with Mycenae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as influenced by civilizations of Nile Valley &amp; Fertile Crescent but developed many unique features – frescoes, carved figures in bronze, ivory, gold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m of writing called Linear B (early form of Greek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oan Flee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6" name="Picture 3" descr=""/>
          <p:cNvPicPr/>
          <p:nvPr/>
        </p:nvPicPr>
        <p:blipFill>
          <a:blip r:embed="rId1"/>
          <a:stretch/>
        </p:blipFill>
        <p:spPr>
          <a:xfrm>
            <a:off x="520560" y="1828800"/>
            <a:ext cx="81075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89000" y="0"/>
            <a:ext cx="86868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arly Greece: Mycenaean Civilizat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0" y="1058400"/>
            <a:ext cx="91440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rly Indo-European settlers arrived on the Greek Mainland around 2000 B.C. settled in southern Gree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uilt fortified cities: Mycenae, Tiryns, Pylos - Mycenae was fortified by a wall more than 20ft thi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lers controlled the surrounding areas.Mycenaean Kings dominated Greece 1600 – 1100 B.C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dopted many elements of Minoan cul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8200" indent="-268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ojan War 1200</a:t>
            </a:r>
            <a:r>
              <a:rPr b="0" lang="ja-JP" sz="28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 B.C. – 10 year war with Independent Anatolian trading city Tro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construction of Mycena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282600" y="1425600"/>
            <a:ext cx="85374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4:12:56Z</dcterms:created>
  <dc:creator>IT User</dc:creator>
  <dc:description/>
  <dc:language>en-US</dc:language>
  <cp:lastModifiedBy>Microsoft Office User</cp:lastModifiedBy>
  <cp:lastPrinted>2011-10-25T19:25:51Z</cp:lastPrinted>
  <dcterms:modified xsi:type="dcterms:W3CDTF">2011-10-29T18:36:47Z</dcterms:modified>
  <cp:revision>31</cp:revision>
  <dc:subject/>
  <dc:title>Greek Government &amp; Law</dc:title>
</cp:coreProperties>
</file>